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DC0-4213-42D5-8903-A3F66C44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4F1-ECC3-4BF6-864B-A8EAC720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77B-816F-4019-90DA-6D7B49CE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21E-313C-4EE4-892F-0CD94EEB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C79E-9D80-4237-BBDA-C30E5716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EE57-F06D-479A-AAFB-B79B24C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AADC-7707-4AB5-B6B8-2B01A7C5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652-E7F3-41CD-B997-8CB2DD3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1FA5-8DCA-41CE-8E8D-CDB8B32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3A12-9114-4C02-B376-51023F73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CDF1-EFD7-48B0-AE45-FE2B8550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B24-2F91-4096-B12D-668FCED5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802E-B485-4424-B31C-963A3C3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F93B-C5D4-434F-A13A-9601D14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217-7338-4717-A7D7-31A4A46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26A3-1ADF-4A81-BD71-E4AE7A7C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627C-04EF-493C-AB2C-5FA17178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053F-689D-4D65-A5F7-8C4218FE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2CDD-0E6B-4D3C-AA05-72BB057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CE20-537A-4713-AD1E-D73D6FEE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69A9-625E-486C-9B60-CED31C0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3538-E4F8-40A5-95C2-ED7083D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8A3-2D3D-4AED-A121-95967A2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C97F-4DF9-4B44-900E-0A1B114D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75140-2A02-4DCC-8A90-4C016569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E6CD-3EF7-4745-AED4-72A5D2F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EBFB-15F8-4936-8D2C-E4693EF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3041-AA3F-42E3-B3A8-035778E6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3007-A936-4C54-815B-2F0A241B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D0F2-EC4B-462A-B96A-B34378FF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5068-8D0A-498F-923C-1A6DBD90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05654-13DD-4E70-B8D1-7B5DD71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EAE5-9698-49AA-B701-57360E4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FC3-9E5E-4A2D-B9E1-8227231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04BA-4326-4652-A2FD-F3186037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9783-B235-4183-A722-AC5A2DAE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8A74-0C3A-4ED0-8797-BCE747F5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71E2-0547-4DAA-A4D6-4E8B531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549B-F82E-4032-9043-5737B70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B629-2223-44E9-980A-8E43C42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C948-0955-49DE-9EC4-188CEB2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B700-876A-4066-BC64-ADBCBA41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1EEB-D335-4054-8480-8EFD817C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7F5BB-4193-4817-B8D9-A91EB5FE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788-2D96-4614-AFCB-1F84EA7F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C942-9FB1-48C6-8C55-55F09171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1B31-8868-4FE4-8222-0AABEAC3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3E13F-CCBD-49B9-9871-0B83929E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F2B7C-0A09-4F8F-8173-E11C463F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3322-A143-4CC6-9C13-C569B323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E8E1-483E-49C9-963D-FDD4EE82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5FAA-6F28-4990-B7CD-986BB679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5A06-319F-47D4-88D0-22200AE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FB1D-DBEF-40FE-9B96-26F15C8F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5E47-BDF1-45DC-B358-141D98B4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ACF-1EBC-4E69-AE6F-344E1666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6DC1B-4B8A-4D4D-A060-109206A1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19AFC-4D33-40E3-8721-D5C97E4C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A419E-2051-47A7-B3D0-8B54FFE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14888-F1DE-444F-9D96-80BFA87A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91B10-ABBB-44FA-9ADC-4CF9FAD3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6A0C-D9E9-495C-A7D6-4B7DD3E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607AC-6D91-4936-BE1A-17F2F46A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ED4C-1568-4369-AC07-432E46E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D8350-D04D-400E-A9F9-8AFD7EE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D621-6448-41A2-8F46-26169F5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3B6-6FDE-4B2D-8AF7-65E2000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86CF-A915-4D1C-A19E-9128C4A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81CE-0A07-4978-B7C5-8DD1A3EF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9FAA-FEB0-4A53-AFDD-B5FA0888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D3F-4199-41F3-8F28-5CBD7A05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80B-815E-4A9A-AEDA-BC9CCA7A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91F-53FC-4E8B-B012-FE69E363CA3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D376-1342-4546-81A3-3B370101F1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245-5013-4FB3-AEAE-385A9F2D96B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86F-4756-4C99-975B-16BBBAB7370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96F5-20AA-4009-A5F3-902C57EACB7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7BA6-39D3-4DC5-9057-9931B423256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Bryce But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lexis Ma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dvantages and Disadvantag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vantages: The fuel is cheap when we use biomass. There is waste everywhere and we should never run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advantages: The gas from a greenhouse which pollutes the air. Sometimes, people grow biomass where we grow food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How does Biomass generate electricity???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omass takes garbage and burns it in a fire box and the heat from the burning garbage boils the water in a boiler. The steam goes through tubes. Then it goes to turbines. The jet hit the blade and starts the generator. The coil of wire starts to turn which is surrounded by a magnet. Then it starts electric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U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57200" y="17524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mass is used for heating, cooking, burning, and also used to produce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ist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iomass covers the entire life of Earth. People used to use biomass to grow crops. Biomass came from the word wildfire. Biomass was used even when caveman were around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mportant Charts or Diagra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4073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itation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t picture Google.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Google.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 YOU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8:49:20Z</dcterms:created>
  <dc:creator>Owner</dc:creator>
  <dc:description/>
  <dc:language>en-US</dc:language>
  <cp:lastModifiedBy>amaren</cp:lastModifiedBy>
  <dcterms:modified xsi:type="dcterms:W3CDTF">2011-04-29T18:19:51Z</dcterms:modified>
  <cp:revision>5</cp:revision>
  <dc:subject/>
  <dc:title>Biomass</dc:title>
</cp:coreProperties>
</file>